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3FC8-E1DB-4688-AD56-909EE801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DCAC-59D6-453B-92D1-0CC150D1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E854-BE3C-4678-AD56-CD97BB23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D6D4-9B4A-4334-9674-6420254D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022D-5E1B-4BD7-A0EE-B0149DE7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9CA9-ED29-47A8-9AA3-E21C5564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5B53-EE09-4F82-BE20-5BAC830A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1EC8-D9B9-45FB-B696-FD4F778E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CDB2-0D2B-4DAD-872E-655E554E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03DB-9400-45CC-9E57-E4591F0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4FAA-E3F3-420C-987E-A5B47D8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3D4A-E519-48A1-A37D-B10B5AFA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065-719E-4DA3-A55E-78E17B57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0F3-5EB8-4029-8681-7E34F0E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5681-94B9-49DC-ABA1-9E9A401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9695-C294-435E-B9D1-E260356C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9D85-2349-4C64-B4DC-35355C98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343E-FD1D-4A1E-A2F8-3346D3E6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04C6-8574-4ECE-87E3-25C0842A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B19B-D1A4-4B49-BA8A-35D3A8F2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867C-E054-4045-8F7C-02DDA272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53B0-6021-49EA-9213-92980F4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0068-E17F-4A72-B07F-00900E06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E98B-75D6-44D4-87C9-08DBB14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A5F9-0186-46F3-A105-CD2A2DF8C5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690-B841-4EBE-B4BD-BA3A05F4C5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sychology.emory.ed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utobiographical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9520" y="388620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amira I. Serrano Card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f. Dr. Evelyn Lu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lish 126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psychology.emory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experiencefestival.com/autobiograph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kristisiegel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e5e5ff"/>
                </a:solidFill>
                <a:latin typeface="Garamond"/>
              </a:rPr>
              <a:t>Autobiographic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Garamond"/>
              </a:rPr>
              <a:t>Autobiographical 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is a memory system consisting of episodes recollected from an individual’s life, based on a combination of personal experiences and specific objects, people and events experienced at particular time and place general knowledge and facts about the wor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e5e5ff"/>
                </a:solidFill>
                <a:latin typeface="Garamond"/>
              </a:rPr>
              <a:t>Autobiographical Typ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Biographical or Personal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: often contain biographical information pertaining to who you are, such as where you were born or the names of your par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Copies vs. Reconstructions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: Copies are vivid autobiographical memories of an experience that contain a considerable amount of visual and sensory-perceptual detail. Reconstructions are autobiographical memories that are not reflections of raw experiences but are rebuilt to incorporate any new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e5e5ff"/>
                </a:solidFill>
                <a:latin typeface="Garamond"/>
              </a:rPr>
              <a:t>Autobiographical Typ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Specific vs. Generic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: Specific autobiographical contain a detailed memory of a certain event, while generic autobiographical are vague and hold little detail other than the type of event that occurr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Field vs. Observer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: Field memories are from a first-person point of view. Observer memories are a third-person point of vie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The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ical autobiographies were written mostly by men, and it was not until mid-1970s, women's autobiographies were taken serious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Film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movies and television series recount tales of recollected memories, especially autobiographical memories in which the narrator recounts a significant time or event in their life. Examp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Fil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Garamond"/>
              </a:rPr>
              <a:t>The Butterfly Effect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, starring </a:t>
            </a: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Ashton Kutcher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 involves a college student travelling through his memories in order to correct the events of his life that have gone wro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Garamond"/>
              </a:rPr>
              <a:t>Total Recall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, starring </a:t>
            </a: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Arnold Schwarzenegger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 references the implanting of false memo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Fil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Garamond"/>
              </a:rPr>
              <a:t>Click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, starring </a:t>
            </a: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Adam Sandler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 told the story of a man who came across a remote control which allowed him to fast-forward and rewind to various stages and events in his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59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Fil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Garamond"/>
              </a:rPr>
              <a:t>Inception</a:t>
            </a:r>
            <a:r>
              <a:rPr b="0" lang="en" sz="2800" spc="-1" strike="noStrike">
                <a:solidFill>
                  <a:srgbClr val="ffffff"/>
                </a:solidFill>
                <a:latin typeface="Garamond"/>
              </a:rPr>
              <a:t>, starring </a:t>
            </a:r>
            <a:r>
              <a:rPr b="0" i="1" lang="en" sz="2800" spc="-1" strike="noStrike">
                <a:solidFill>
                  <a:srgbClr val="ffffff"/>
                </a:solidFill>
                <a:latin typeface="Garamond"/>
              </a:rPr>
              <a:t>Leonardo di Caprio</a:t>
            </a:r>
            <a:r>
              <a:rPr b="0" lang="en" sz="2800" spc="-1" strike="noStrike">
                <a:solidFill>
                  <a:srgbClr val="ffffff"/>
                </a:solidFill>
                <a:latin typeface="Garamond"/>
              </a:rPr>
              <a:t> involved a team of people who venture into people's dreams and memories in order to find out in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A man in a suit with a gun in his right hand is flanked by five other individuals in the middle of a street which, behind them, is folded upwards. Leonardo DiCaprio's name and those of other cast members are shown above the words &quot;YOUR MIND IS THE SCENE OF THE CRIME&quot;. The title of the film &quot;INCEPTION&quot;, film credits, and theatrical and IMAX release dates are shown at the bottom."/>
          <p:cNvPicPr/>
          <p:nvPr/>
        </p:nvPicPr>
        <p:blipFill>
          <a:blip r:embed="rId1"/>
          <a:stretch/>
        </p:blipFill>
        <p:spPr>
          <a:xfrm>
            <a:off x="5334120" y="1752480"/>
            <a:ext cx="298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1:46:14Z</dcterms:created>
  <dc:creator>Admin</dc:creator>
  <dc:description/>
  <dc:language>en-US</dc:language>
  <cp:lastModifiedBy>Admin</cp:lastModifiedBy>
  <dcterms:modified xsi:type="dcterms:W3CDTF">2011-03-07T03:18:52Z</dcterms:modified>
  <cp:revision>11</cp:revision>
  <dc:subject/>
  <dc:title>Autobiographical </dc:title>
</cp:coreProperties>
</file>